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ECB-9171-4443-9FFC-0559D6B3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BC8F-30AA-4CF6-BDDE-39CFE583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CEBB-C56B-402B-9C3E-45BF6CCBA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48B-E89F-41C5-AB80-E2F2CCC32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B257-466D-47B0-ABAD-30D3BDF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9C46-1433-4422-9066-4A6D22786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2F1B-4805-4A80-BEC2-DC533B481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2B0B-9A52-4222-8451-DC50DD7B7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9BFB-94FF-4AC8-A027-A099CFE6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DC1C-E136-4934-98BF-EC6E4668E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4DAB-20C2-4710-BC40-BD87CF196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5A03-8A45-4F4D-BCED-C082BEFAA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4859B-B206-4D4B-B1CD-F51E254E7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Statue of Liberty’s N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nvestigation into measu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33520" y="3048120"/>
            <a:ext cx="181908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380880"/>
            <a:ext cx="8610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udents were given the following information…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295280" y="2209680"/>
            <a:ext cx="6400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tatue of Liberty’s nose is actually four feet six inches in leng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otographs of the stat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lers and tape meas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6194520" y="3505320"/>
            <a:ext cx="2593800" cy="285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6553080" cy="57657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udents were challenged to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2332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how long the Statue of Liberty’s arm is from shoulder to wris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ide how many noses it would take to make up the length of the statue’s ar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dis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12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53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53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r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3716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88500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55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55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ile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55000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57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57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84000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59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59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819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5" dur="1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6T15:56:04Z</dcterms:created>
  <dc:creator>Teacher</dc:creator>
  <dc:description/>
  <dc:language>en-US</dc:language>
  <cp:lastModifiedBy>Teacher</cp:lastModifiedBy>
  <dcterms:modified xsi:type="dcterms:W3CDTF">2007-04-27T16:14:47Z</dcterms:modified>
  <cp:revision>4</cp:revision>
  <dc:subject/>
  <dc:title>The Statue of Liberty’s Nose</dc:title>
</cp:coreProperties>
</file>